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1C5-C599-4D84-963A-8A3636AD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0E6-9E36-4581-B399-B274189A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F4D-5829-459D-ABB2-25E7B0F4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CB5-37D4-4434-839D-F82FB59E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E28-E451-41D9-9F66-293E6ED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046-4943-49BF-A096-236E50A8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402-E1D6-4391-BE4C-F491A7B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84F-F90F-43D1-BA82-18CA3F3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93D-DDB8-4DA3-84C4-50A4882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725-FA22-48F1-ADD3-C35E661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092-91C5-47CA-89CC-117FD7B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1B9-5CA1-4F1B-AC3B-0202C62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B80-7758-4AF4-8A69-ADAB4FAD3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Reassessment9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Reassessment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Reassessment11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Reassessment12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Reassessment1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Reassessment2.jpg"/>
          <p:cNvPicPr/>
          <p:nvPr/>
        </p:nvPicPr>
        <p:blipFill>
          <a:blip r:embed="rId1"/>
          <a:stretch/>
        </p:blipFill>
        <p:spPr>
          <a:xfrm>
            <a:off x="752400" y="819000"/>
            <a:ext cx="7639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Reassessment3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Reassessment4.jpg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Reassessment5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Reassessment6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Reassessment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Reassessment8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39:19Z</dcterms:created>
  <dc:creator>zcui</dc:creator>
  <dc:description/>
  <dc:language>en-US</dc:language>
  <cp:lastModifiedBy>rbalne</cp:lastModifiedBy>
  <dcterms:modified xsi:type="dcterms:W3CDTF">2009-08-12T14:04:27Z</dcterms:modified>
  <cp:revision>2</cp:revision>
  <dc:subject/>
  <dc:title>TRAC</dc:title>
</cp:coreProperties>
</file>